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CEE58-3B59-403D-8FC1-7AC5B5696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69C76-77D9-4689-933A-C69B28DC0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79BEA-EDE3-41FD-A0AE-4D8F44B83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8D1A1-DAF6-4C4A-8DF1-779D7BEC2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6F6CD-AD7C-45F0-8F39-B537D6FEA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2667D-1693-4FB6-BBAF-35F1678A5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601B1-1ECD-40E0-99AB-9C9F02567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35E74-F5A8-4EE6-A27D-C0CFDE565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652D8-C88A-431B-BCA0-E6B752AF2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92A99-DC2F-4958-B96D-77D701337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AC13A-365A-4EE9-A7E4-3AB0FD80F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F0A26-A831-4B43-92CE-913051EE0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35323-EE3E-4211-B7FA-17B4F56733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838080" y="87480"/>
            <a:ext cx="8077320" cy="5879880"/>
            <a:chOff x="838080" y="87480"/>
            <a:chExt cx="8077320" cy="5879880"/>
          </a:xfrm>
        </p:grpSpPr>
        <p:pic>
          <p:nvPicPr>
            <p:cNvPr id="42" name="Picture 2" descr="A picture containing text, electronics&#10;&#10;Description automatically generated"/>
            <p:cNvPicPr/>
            <p:nvPr/>
          </p:nvPicPr>
          <p:blipFill>
            <a:blip r:embed="rId1"/>
            <a:stretch/>
          </p:blipFill>
          <p:spPr>
            <a:xfrm>
              <a:off x="884160" y="1147680"/>
              <a:ext cx="3721320" cy="1820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Picture 11" descr="A picture containing text&#10;&#10;Description automatically generated"/>
            <p:cNvPicPr/>
            <p:nvPr/>
          </p:nvPicPr>
          <p:blipFill>
            <a:blip r:embed="rId2"/>
            <a:stretch/>
          </p:blipFill>
          <p:spPr>
            <a:xfrm>
              <a:off x="838080" y="4017960"/>
              <a:ext cx="3648240" cy="190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" name="Picture 2" descr="A picture containing text, whiteboard&#10;&#10;Description automatically generated"/>
            <p:cNvPicPr/>
            <p:nvPr/>
          </p:nvPicPr>
          <p:blipFill>
            <a:blip r:embed="rId3"/>
            <a:stretch/>
          </p:blipFill>
          <p:spPr>
            <a:xfrm>
              <a:off x="4637160" y="990720"/>
              <a:ext cx="4278240" cy="204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Picture 17" descr="A picture containing text, white&#10;&#10;Description automatically generated"/>
            <p:cNvPicPr/>
            <p:nvPr/>
          </p:nvPicPr>
          <p:blipFill>
            <a:blip r:embed="rId4"/>
            <a:stretch/>
          </p:blipFill>
          <p:spPr>
            <a:xfrm>
              <a:off x="4851360" y="4114800"/>
              <a:ext cx="3913200" cy="185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53560" y="87480"/>
              <a:ext cx="3765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ull unedited gel of Figure 5E (source data 1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4-05-14T16:33:43Z</dcterms:created>
  <dc:creator>User</dc:creator>
  <dc:description/>
  <dc:language>en-US</dc:language>
  <cp:lastModifiedBy>User</cp:lastModifiedBy>
  <dcterms:modified xsi:type="dcterms:W3CDTF">2024-05-20T18:54:26Z</dcterms:modified>
  <cp:revision>10</cp:revision>
  <dc:subject/>
  <dc:title>Slide 1</dc:title>
</cp:coreProperties>
</file>